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move the slid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D41-81DF-41B2-8E5B-C1A4493D0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7F9-071C-4F18-A1AC-81E8C2130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FE8-9802-44C2-B7D9-05A1BC3D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520-D15C-4655-B4E0-773BE4F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339-FEB6-41F6-8344-5C237355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F1C-0544-4C15-B895-EF8C7966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6F8C-05AD-473F-A557-D3C111A1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0498-E08F-4255-904C-3BD71E8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36AD-7A0C-49E9-B05F-1C90C0C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B24-0221-41BD-964D-7D89EDE3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F1F6-53A7-4EF1-878D-7A13C68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865F-9393-42A6-8A6C-27CB589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681-21E6-49D1-BA4C-1425908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417-607B-4D59-B7FC-E564FDE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073-9810-4CEA-B9F4-DEDA384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CD2-72EF-4AA7-BA43-744809F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8492-4725-4A02-8615-71DF7484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6A8-CA20-49BE-8B8F-820A10F9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301-1E88-4F2E-AC75-451F4F5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D1A-17E5-4E88-8A1A-E3651931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007-0A63-4321-81DF-4FAF7E6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24F-4FB4-41CA-95A4-CC0AE7A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DB9-2C67-4F6B-9020-27EBEF6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910-9FDA-4CEE-A238-CF4DDE8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71D-44FB-46AB-9297-D41E54D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D2F-9902-4774-BA70-DBFEB0C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1018-3F33-47CF-BDA8-F992704E9077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1B42-6591-43D7-9674-13E27A1D5E12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3:1-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68-73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7D2-184A-46AC-9B73-F331809F0328}" type="slidenum">
              <a:t>1</a:t>
            </a:fld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4-5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Guided by the Holy Spirit, Barnabas and Saul went down to Selucia, and from there sailed to Cypr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yprus’ chief cities were Salamis and Paphos on opposite ends of the islan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n Salamis, they preached the word of God to the Jews having John Mark as a helper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8E4-8A7F-4A3D-96DA-D658702960EC}" type="slidenum">
              <a:t>10</a:t>
            </a:fld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6-8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hen they had gone through the island to Paphos, they found a sorcerer, a false prophet, a Jew, named Bar-Jes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ar-Jesus had attached himself to Sergius Paulus, proconsul of the islan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rgius Paulus was an intelligent man who called for Barnabas and Saul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lymas (Bar-Jesus) withstood them, trying to turn the proconsul away from the faith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A2C-A4E4-4A5B-8A4F-0AE34D5485EC}" type="slidenum">
              <a:t>11</a:t>
            </a:fld>
          </a:p>
        </p:txBody>
      </p:sp>
    </p:spTree>
  </p:cSld>
  <p:transition>
    <p:comb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9-12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aul, hereafter called Paul,  filled with the Holy Spirit, looked intently at him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aul said to him: “O full of all deceit and fraud, you son of the devil, you enemy of all righteousness, will you not cease perverting the right ways of God?”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mmediately a dark mist fell on hi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n the proconsul believed, being astonished at the teaching of the Lor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709-6FA6-44B0-875F-A38203D48E50}" type="slidenum">
              <a:t>12</a:t>
            </a:fld>
          </a:p>
        </p:txBody>
      </p:sp>
    </p:spTree>
  </p:cSld>
  <p:transition>
    <p:comb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-1440" y="0"/>
            <a:ext cx="11701080" cy="6872400"/>
            <a:chOff x="-1440" y="0"/>
            <a:chExt cx="11701080" cy="6872400"/>
          </a:xfrm>
        </p:grpSpPr>
        <p:grpSp>
          <p:nvGrpSpPr>
            <p:cNvPr id="178" name=""/>
            <p:cNvGrpSpPr/>
            <p:nvPr/>
          </p:nvGrpSpPr>
          <p:grpSpPr>
            <a:xfrm>
              <a:off x="-1440" y="0"/>
              <a:ext cx="11701080" cy="6872400"/>
              <a:chOff x="-1440" y="0"/>
              <a:chExt cx="11701080" cy="68724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-144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5040" y="17640"/>
                <a:ext cx="11694600" cy="6368400"/>
                <a:chOff x="5040" y="17640"/>
                <a:chExt cx="11694600" cy="6368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65744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5536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32952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8052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0780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3352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56420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0036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9828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00552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135756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21456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16380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2572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20960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37116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3832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500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28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2460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5024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22400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2668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4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3068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592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100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808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208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54944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151956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832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54360" y="17640"/>
                  <a:ext cx="45950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irst Missionary Journey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2744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05440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19896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5728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16380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38608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2436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-144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6666"/>
                </a:solidFill>
                <a:latin typeface="Arial Narrow"/>
              </a:rPr>
              <a:t>Paul-1st Missionary Journey</a:t>
            </a:r>
            <a:endParaRPr b="0" lang="en-US" sz="1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353-3E4C-4058-BD3E-EFC545B79D59}" type="slidenum">
              <a:t>13</a:t>
            </a:fld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Syria, Asia Minor, Macedonia, Greece, Rom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rote 13 (maybe 14) of the letters of the New Testament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orn in Tarsus of Cilic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ducated in Jerusalem under Gamali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Pharise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Roman citize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115-1E67-4A60-87FC-CE762650E57B}" type="slidenum">
              <a:t>2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Led in the early persecution against the saint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Received permission from High Priest to go after Christians in other plac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onvert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ppointed to be a servant and a witness for the Lord  (especially to the Gentiles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D20-1143-410D-A55E-82F3E15B9A11}" type="slidenum">
              <a:t>3</a:t>
            </a:fld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, The Apostl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rst three years after his baptism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ent to Arab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Damascus aga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scaped a plot against his life (now on the receiving end of persecution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Returned to Jerusale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arnabas told his story of convers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Jerusalem 15 days until persecute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scaped to Tars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701-9433-4D56-835E-4E3A4EB82D9D}" type="slidenum">
              <a:t>4</a:t>
            </a:fld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609480"/>
            <a:ext cx="38862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arnabas and Saul spent a year working in Antioch.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rethren in Antioch sent relief to poor brethren in Judea by the hand of Barnabas and Saul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When the task was finished, Barnabas and Saul</a:t>
            </a:r>
            <a:r>
              <a:rPr b="0" lang="en-US" sz="1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turned to Antioch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Saul was personally commissioned and qualified by Jesus Christ to be HIS Apostle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arnabas would be an apostle (one sent) by the church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8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D 44-45</a:t>
            </a:r>
            <a:endParaRPr b="0" lang="en-US" sz="24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A4F-6C2D-45A2-9064-E554E59DBB03}" type="slidenum">
              <a:t>5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867280" y="228600"/>
            <a:ext cx="29718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 Call of Barnabas and Saul – Acts 13:1-3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Chosen by Spirit of God - 1-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Supported by the church -3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y Sail to Cyprus – 13:4-1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penness to God’s Word - 4-7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pposition to God’s Word - 8-11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bedience to God’s Word - 1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CBA-D161-4DC3-AFCE-C7177571A9EF}" type="slidenum">
              <a:t>6</a:t>
            </a:fld>
          </a:p>
        </p:txBody>
      </p: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1DC-82E2-4813-8DB8-7A861A3E443E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9C6-A9FC-4AEE-A151-80785D81F867}" type="slidenum">
              <a:t>8</a:t>
            </a:fld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1-3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five men who worked as prophets and teachers at Antioch - Barnabas, Simeon, Lucius, Manaen, and Sau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Manaen was a childhood companion of Herod Antipas who beheaded John the Baptist and who Jesus appeared before during His tria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t was during these mens’ service to the Lord that the Holy Spirit said “Separate to me Barnabas and Saul for the work to which I have called them”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B96-20E4-46D0-8008-B494EE550056}" type="slidenum">
              <a:t>9</a:t>
            </a:fld>
          </a:p>
        </p:txBody>
      </p:sp>
    </p:spTree>
  </p:cSld>
  <p:transition>
    <p:comb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23:45Z</dcterms:created>
  <dc:creator> Tab Vines</dc:creator>
  <dc:description/>
  <dc:language>en-US</dc:language>
  <cp:lastModifiedBy>Frank D Vines</cp:lastModifiedBy>
  <dcterms:modified xsi:type="dcterms:W3CDTF">2007-02-21T04:34:00Z</dcterms:modified>
  <cp:revision>14</cp:revision>
  <dc:subject/>
  <dc:title>Go Tell The Good News – Part 1</dc:title>
</cp:coreProperties>
</file>